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  <p:custShowLst>
    <p:custShow name="自定义放映 1" id="0">
      <p:sldLst>
        <p:sld r:id="rId4"/>
        <p:sld r:id="rId5"/>
        <p:sld r:id="rId6"/>
        <p:sld r:id="rId7"/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786D-384D-4D96-A71E-3C32A8CB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9D1E-2382-4273-824C-1B517C07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DD43-E68A-46F8-A4EC-5F0770B5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091C-1FBC-4D8A-A722-CFA4B287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A5D19-DB8F-4992-948B-94170B8C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6DAFD-51F7-401A-81C8-68C4B2F1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E6D86-DE0B-431F-8621-52A731FF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6E8F2-90E1-4BDD-9C2D-539E670C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F2F75-3295-43F5-8F67-BFC16212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1C67C-A6F4-4D38-87ED-B9B45C75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9956C-41FD-4BB3-9329-3F307E09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BC39-C95C-4A1A-A907-FF6C92E2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B091C-E756-4219-A594-CB49EFF7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221EE-AB88-4B28-B0E3-2F5D8FC4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C9ECB-F65D-4C9C-9F89-21A0C77F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19719-F6C2-4B8E-9451-75C8A124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85A8F-935A-489E-9455-9F2AFD1A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24B5-EC4C-4620-A153-611A1913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7D6D-DF03-4567-9200-B42A0734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9CB3-77C2-479C-8F14-91B8A1C2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838A-F208-4604-8B5D-FAF85376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C7C5-0FD1-4D79-9FFC-AD4BA173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6E31-3DC8-45B4-9711-30991EA2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B8FF-C7C1-44A1-B9EF-81EA41BF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4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10104c"/>
                </a:gs>
                <a:gs pos="100000">
                  <a:srgbClr val="5b5b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70723"/>
                </a:gs>
                <a:gs pos="100000">
                  <a:srgbClr val="1010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6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10104c"/>
              </a:gs>
              <a:gs pos="100000">
                <a:srgbClr val="4529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8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7799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9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10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1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2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3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4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5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658b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7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8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9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20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1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2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6ccd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6ccd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47D1-8268-44AD-982F-53777188537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8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29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10104c"/>
                </a:gs>
                <a:gs pos="100000">
                  <a:srgbClr val="5b5b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30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70723"/>
                </a:gs>
                <a:gs pos="100000">
                  <a:srgbClr val="1010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31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10104c"/>
              </a:gs>
              <a:gs pos="100000">
                <a:srgbClr val="4529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7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8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7799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9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10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5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658b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7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6ccd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6ccd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377A-5339-4AE3-B965-B82997D22BD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7916760" cy="21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6ccd4"/>
                </a:solidFill>
                <a:latin typeface="黑体"/>
              </a:rPr>
              <a:t>医改、政策和医院发展</a:t>
            </a:r>
            <a:br>
              <a:rPr sz="6000"/>
            </a:br>
            <a:br>
              <a:rPr sz="4000"/>
            </a:br>
            <a:endParaRPr b="0" lang="en-US" sz="60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763640" y="4220640"/>
            <a:ext cx="468144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冯泽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539640" y="692280"/>
            <a:ext cx="255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医院和一切个人及单位都必须借势顺势而不能逆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借政府之势（改革和政策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借市场之势（市场对产品的需求、顾客及其他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正确认识政府医改及其政策之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正确对待第一次医改及其政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正确认识第二次医改及其政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当前医改及其政策的必然选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必须综合配套改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必须明确政府与市场的分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必须推出的几项改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建立以“双诊制”为基础的分级诊疗制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“双诊制”政策是把公共利益放在首位的必然选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流病人，是解“看病难”、“看病贵”问题最重要的政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双诊制” 是合理配置卫生资源、促进卫生公平性最有效的卫生政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在控制卫生费用、增强卫生可及性和可获得性方面有重要作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首诊制对维护医患间的诚信关系、增加医生对患者健康的责任感、以及对于实现人人健康的目标有重要意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推进“双诊制”中存在的问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基层机构服务能力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人力资源数和量不足，队伍不稳定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基础设施薄弱，设备配置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城市化过程加快，许多乡村卫生机构转变为城市社区卫生机构，导致人员素质、数量和设备场地等不能适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大医院的改革是发挥基层医疗机构作用的重要条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引入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PPP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增加医疗供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引入社会资本，增加医疗供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完善公立医院补偿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加强社会保障提高民众的购买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稳步推进公立医院改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四、适应顺应政府（改革和政策）和市场之势，促进医院发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9:19:16Z</dcterms:created>
  <dc:creator>Think</dc:creator>
  <dc:description/>
  <cp:keywords/>
  <dc:language>en-US</dc:language>
  <cp:lastModifiedBy>Administrator</cp:lastModifiedBy>
  <cp:lastPrinted>1899-12-30T00:00:00Z</cp:lastPrinted>
  <dcterms:modified xsi:type="dcterms:W3CDTF">2015-06-28T03:01:05Z</dcterms:modified>
  <cp:revision>40</cp:revision>
  <dc:subject/>
  <dc:title>医改实施药事服务费的伦理学分析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