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44BB-DB02-488D-BEF8-4C4333D7C8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12B9-9C4A-4E36-8CF6-EE89E9AFBA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E66-B193-4BF0-BF2D-C55DD95AED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2FF-A863-4801-9E76-F342ECE2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143-E38D-4B6D-8A38-C7CE83C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DB76A-3881-40B9-85FB-3C474CD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D2FD-2C09-47EA-AB8E-FF6FCD91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20E51-C3C6-4CAC-94E6-32AF427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CF83-3A57-48D8-A7DD-9973944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C2C21-5038-4E2C-839B-52D5303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80239-5950-4762-83F8-80F12E7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C6DD8-41C6-43F7-986F-427D3B6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58F9-2625-4FF5-99B3-BE97B195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4FDB7-23B9-4415-A803-0CA37C58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A1531-A675-4C69-8BA5-040CC804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3F1-BCCD-4F9D-A738-31A2E5BD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2726-B24A-4CDE-8391-AB1EBD13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CE44-17C2-47B4-9EBF-FF46A03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48E3D-4538-4FE4-B56B-4B7CE179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13776-406E-473B-99E5-0B35F66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3234F-CF9D-41B9-AA52-2190548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89581-D3AD-4FD8-889C-656F1E16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A60D8-68EF-4AC7-897E-057B87A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C3E4-20BF-4129-832C-DE2CC77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3F171-659F-49B1-BEF4-930105D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7F9D-AE8E-4884-849C-F981028E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737-F90C-460F-9FAF-9ED9F3B6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D17CA-935C-4F1B-BD7B-45BD55B1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A6D5-1A21-4E64-A918-B8119164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82D8-CCEF-49B3-A230-8AE29039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6FF5-343F-4DE9-9EF9-F94AFBB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2AE91-C529-4535-8DBC-5D407DC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4E9E-38AE-403F-B08D-B9084B9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64EE-8BBC-47AE-AAFF-1A84E258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859E-ED9A-4D2A-8779-1A563E7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33593-6913-4504-A352-AB32DBF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DFB12-5855-4ADB-B420-474770B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7237-FDC8-4A0E-A829-889199DD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5547E-1A6E-45F9-8665-1E4E995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10A06-34F3-457C-BBF6-71A23DB2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159EC-5B07-4ED7-B25F-4CA9DC37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67F57-B22D-4AC7-85FE-F2030294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09A34-0A04-4A27-A636-C90A6F8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0276A-FB9A-4867-88F4-930671E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377C-2135-424C-A3B7-BA5D49E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8CA64-CE9C-4962-8B3C-A45F27E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AE8B7-3A47-435C-9900-44AAAFB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98A37-C4B7-459D-A7CC-29ACF26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D18-85A3-4F31-945C-7A5DF9B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57F07-067F-4A67-AC2F-B6113C6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41931-812C-47FE-A178-58B6E68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D4266-3699-423E-A8ED-7858182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D1E3C-C8FC-4A36-BDE3-2435B85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00E7-3438-44A3-8DC7-1C2A2041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C4DD8-9546-4A55-84A6-F176ED8E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41925-3DE9-4BD4-A219-11E1A1E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0376A-7D06-4A66-8019-09149205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3E061-BC4E-4CD2-8D14-3F08B6F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D97F3-3212-450D-BA2D-1467C21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2FB-1AB5-41B3-ADBB-DA08516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70F1F-882F-4E93-A061-02B1CAA6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5F3FD-A262-45E1-9279-5DD1BC7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7652D-5045-4CC9-964F-D4131B5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A5DA7-3245-413C-A1E8-9A0C22BA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0877-F2E5-4586-ACF2-79777FD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F3D02-8D2A-431B-9124-2B9A7C7C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1A8CE-E787-4E47-B927-6C352592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A52FE-312B-41A6-8E47-1E48425B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435D7-0205-48AB-B4CE-8B3C9118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B10A0-A5F8-4AC3-9F02-DB909846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8B4C-1AB7-4640-9F79-D70288F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06AAB-94F9-4064-A816-3E44922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80B44-19E3-4111-848A-40D26A7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61C50-925A-40DE-8B37-5E778B8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ED1D4-5FA5-4350-8941-52C00B27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E7BA2-54E3-4078-B615-39497EF6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5837E-F63B-4F43-9382-CC249E8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ADC67-74A8-4A96-8455-B4290E84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BB760-191C-4834-B2CF-2D83492C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3CE2A-E399-461A-8902-8849CC94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64F3A-922F-4200-A8AE-BC5E1A76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78B-F149-472C-A066-6B10E52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20AA2-BFFA-447C-80AF-425BE0B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F4A30-3A6D-4A08-8EA6-A325DFA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4313F-023F-4D51-9B5F-7A940C6F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26271-D2FC-43C0-92B7-0AB64E78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5285B-2667-40FC-BBA1-67CC22F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D5185-9CBD-442A-9745-47674C8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283D9-BCFE-47BB-816B-B7E5F4F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4EFE2-6C81-4518-B4C7-D63B9FE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F01D0-87DB-4334-8ED9-6384978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26C00-C5E9-4247-AF58-E3F75A45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B82A-FC30-4927-A470-B33F48F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C04E7-DC47-474C-B12B-4644318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9BBCB-10EE-42BC-87A9-4DDD1678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B8ED0-612B-410F-BAD6-A583BA5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8BF81-B0B8-4316-9BE2-2931A96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72BAF-1830-4E9B-8BA3-CC1890FB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007A7-7032-49EF-8825-016ED44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456DE-8CAA-41F2-A4D6-0987EFBA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7513E-A956-418A-A1D3-5401884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B81ED-BEFD-40C2-9B96-FA272BE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A4BDE-773D-456A-A52E-27AC801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3D7-2970-45D7-833F-530BD83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F44E0-1CB5-43B6-8028-A43787D3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6C2D5-6125-420F-A16B-63F22CB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B5DFD-3756-4B6E-9D76-BA92541E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C3FCF-DE61-495E-A8C2-1F8D413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4EA6E-0399-4572-96BF-E69967D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F5721-FAC1-4F49-946E-B0A642D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9BEE9-EBEA-4AA0-A681-E73105F7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F38B6-FD84-4102-ACC3-BE71356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5AF36-1842-4C4C-B5D6-98C413C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E9C30-21CD-4077-AADA-F9B883A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999-5FBA-4730-AF23-5E0E42D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762-6921-4FE7-A3A2-A3A558F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6890C-3600-446B-9F6F-F9F2E9F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86FAE-0EBA-4F84-8CF5-2566E4F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C27BA-1D82-49D7-82A0-3566468B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3102F-F4BF-4048-806C-BEE992DF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D6DF6-A4D8-4CC3-BC08-5E3FE293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79EF5-65E0-45B9-8025-FB2F0500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90CEF-9361-4FE9-9A83-9F1FCAD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53F81-BE09-4C60-A10C-8DA6872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DEF130-8561-42E6-BC71-ED50B0F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ED3F1-5C17-4D83-9887-5F9FA86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C9B7-C2C8-4F38-9826-9156607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15B87-3B6B-41EC-B236-1348E79D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129C4-69F0-4445-ABD4-DE7C150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FA6DD-CF4F-484F-A0B5-CD5543A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E6B5A-1EC6-4F7F-B519-58199545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A4C3F-5B39-4043-A22E-A31AF62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2622F-884C-4241-B13E-AF8C4AB8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89915-C4EF-4F2E-8036-6E347D5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FE784-B9CA-4389-8A9C-E70F74E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BD6BD-793E-4C9A-8935-92BC31C7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949B7-1334-4923-8250-E98D5EE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CD7-22D3-4F4D-9D92-91A2CF7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4C149-999C-4D45-A99A-2AB5148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7B3C8-BD9A-4CB0-B9E0-4885D79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9E931-4C83-4A9E-A4EC-4B5D932B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87B15-3825-40B7-BC14-F16DD02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3DE2E-FFF0-43CA-8DFC-28D0F74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CFDD8-9FCC-4DEF-AE1D-ACB1C86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D699A-386E-460A-A57E-6CD6AEA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4F02E-EA1E-4847-A6B0-260358CD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E447D-9015-4E6E-A54D-B6E68AC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D2DB3-7C75-4C67-B4E7-870086A8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C319-BBAC-4ADF-8887-47F0E283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0E390-D3C7-40C9-A841-3B7621D7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1FE97-A030-4EB6-A392-D1603689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82B36-B6B6-4634-B66B-C016854F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0A6E8-4BF7-4534-BADA-A2F5B87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B5E01-0345-4AF0-83AD-39D09E2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D133A-FC45-4F01-BFF9-92211A0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043F5-0902-4DCA-B9A1-EA067A6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0E16F-4C15-4C6C-BC38-D65F732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BE4BF-0875-40F2-B39F-818D6FE4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F5861-1DFC-4D35-8368-A4488E59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FCD-6223-4754-B62F-5FFB4BA2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DDA2E-0FF9-430C-96D9-8095EE18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6405B5-ADE1-409B-9318-5D75663D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7E7DB-D6BA-4204-A5E0-BE5D8D3C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6EF9C-7E96-4F10-B011-B0982FF0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E8246-03D4-47AE-9815-0078D18B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3D5E0-AFA4-4EE8-8DA7-68C5A19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534DC-A6E4-407E-A925-1378096B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50994A-2AA0-465B-AFE2-3C1F11EF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AB686-041D-4E1B-8D4B-065C9A1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A35F9-2AEF-4A90-B845-936029B4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46D6-ABBC-4C8A-A95C-E094F9E3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F6A2E-A023-4665-A3ED-BDFEC34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14FB7-99AE-43C7-AF3C-7DFD9FC6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9A76D-A0CE-4B06-B99D-593D01DD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BAAB7D-5CF7-4E3C-8043-A3AEFCDF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F0D01-CA22-4A68-A4AD-9218240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A87A16-8DD7-428D-9997-B8AA450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86806-8731-4104-BEF7-D50F4B2C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74A915-F505-432C-BA0D-F38A394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560347-6DDD-4AFA-A785-DBE6765C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3E2B7F-1499-4A77-AD60-D304128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7B15-0FF7-481B-89BB-FBF010EF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E24A4B-8FFD-4FF0-B5B3-402352F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EBF69-245F-43EC-9058-DAAF4B6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FB1A6-C7A5-4621-891A-45B12390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98D51-012F-4DC0-8346-3C392BDE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62592-D953-4BC7-ACA4-485FB2ED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A7DC61-A65B-49DC-92CD-AA87509E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A7D1B-E63A-47A6-9BC1-8A1F2456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56A09F-2E70-4324-A01D-49085C4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152BC-A9A7-49A0-99A2-3ACD203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14C35-125D-4C0E-BBD9-D9F9ADB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2C0C-C76A-4E71-ACB1-A5AC24D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D7794E-2CF8-4D5E-8A9D-646955D7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AE3EC2-5340-464C-BD2F-FAC1583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3C984D-F7B6-4996-9CA5-517DCC1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183C6-9FC0-4314-8161-A257393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F167C-C6DA-48E9-9E79-0AACB7E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E4C0C-9FE5-4CA2-B400-28ABE52D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CF296-DF3E-47EF-99E6-D1DE25A6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A5FEC-2E8E-4757-B0BD-95071491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7520C4-3E46-4DF3-B5C0-724585AA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44744C-06F7-42B6-9FFC-4B5457F5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A110-6E48-4AB9-9388-45BA5CC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13E7A0-08D5-4AD9-BA69-2E2B60A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2DE435-47B4-46DE-9DD5-5049806E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92818-B4C9-40CD-9A0C-EF7FE726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855E9B-60BB-469F-B8DB-582372F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B64E9-4CFA-4A51-B6B9-61C08F55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301EE-A35E-41F3-93C2-15EB190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5D4E36-672D-47F8-9B17-C247AF32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33C3CF-08AA-472A-81AD-E266BEEF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1E5F3-AAFA-4240-9DBA-8B0CDABA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762241-CDEF-4B0F-A262-54DCB7C0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F3FA-E2C3-4506-8977-27179706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5D3BE7-C07F-4CD7-906A-86ACE77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8C967D-83AA-4CF0-A3A8-7E87AD1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15ED48-FA3A-4F09-9105-8270736D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6AE725-FF29-42B6-9EAB-D5779324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745D96-A980-4EB3-9894-FE0256D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E022A2-1A79-4DEA-B461-13028B2F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56BCB4-A309-494F-9217-D194F08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DAB48-909A-48E1-A292-FBB2DA5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5F264A-1B47-4E07-8C5C-E30A5CB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69D3FB-241A-4DB9-A5CE-FEA91888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6BB-5FA5-48E1-88A9-508E932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9A68-AEFA-45A6-9793-02E3B14C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65091-C21B-4C48-AD89-DFB25EBF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5BAE-B182-46F5-89AD-75D9145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BB51-5735-4E03-8E30-B291349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4035-8679-4EB0-AA9D-7386A83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8E86-711B-4DE6-B4B8-177392D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AEB0-3879-45CA-8822-E2AEE3E3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DC11-A2AD-4945-B173-40ACDFF2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CBC5-0442-4C95-8367-1E62F990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06F8-0F13-4D16-BB37-63FED565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5AFD-F13A-4AA0-B590-074628D1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7C6-2B69-45E6-919D-117287C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0AAB-4DD5-46F9-ACA7-6A6A2E0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07CB6-4549-4D14-BAFB-CE7D779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02B5-B06F-4DC1-91F7-AA66B5B3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45B1-42FD-404F-8B2B-3B1ACEE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35C3-0C50-499C-8046-440841D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0295-DCA8-4434-A5A2-5A911241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1E416-D0D8-43B6-9CCB-5B844223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EDBD-2026-4939-8745-0234B5CC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C77B-20B7-4FB9-8F51-4DD25D3C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4E87-BB50-4D64-A2E4-008925B9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995-564B-48A8-9507-B46599C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9037-1DD6-4CD4-97F2-F198ACD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E5B8-351C-4064-8898-4D6A292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0D46-CA0D-46C7-8911-990B2A6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00D4-CA7C-499F-8972-E24A2FF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9A35-D98E-42E1-80E9-5DDFB34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BDA2-ED8D-4DB9-9B41-E7DD2A3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444A9-108B-4ED0-89CC-74DE118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F430-F40C-4993-AA84-FFEBF16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3D130-3D40-4A47-AE88-403E07C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2833-7487-46CD-9A4D-8C67D478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7BD-A785-46F2-A7C2-44ECF3E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E842-79A6-4C2E-A6C3-2355656B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F240-ED32-4F14-A69F-BFEE4E9C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02BF-4E4E-4DFB-AC97-2D7918D2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CA9DB-EBF7-4058-8C3F-34FA018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CF9CF-77FA-4C21-920C-70B5F5B1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12EB2-5869-42E2-8BB0-E343EDF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E61F-ADA3-46D9-9C09-F5A8B49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DEEB-AA6C-4052-8198-1364AA8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AADA-6A65-4003-B65A-7E589A8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E06D-48E2-4477-A897-83F9F9C8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F80-47E8-4DF4-A22A-D5BE682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EAFF-9F00-409C-AD71-A0425A0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BB302-B9AA-4622-AF6A-C9F744B4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5D6BD-4655-4078-A548-99DF7B5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6519-EEE3-4CA8-9E61-0C0E9462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871C-C6D5-45C1-B11C-DD225E04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F0E8-C3D0-4FCB-B0AD-ABEB54B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8CA6-6C9D-4945-9334-252ECCB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A242-BD99-4B7C-B3E2-3DEF6745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D87C-AC36-439F-82CC-EBC90512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2611-79E1-4F3E-A2E9-0532501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062-92C7-4B84-9A44-1500D65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B491-57F8-44C8-BDD8-DC9ADF0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E18B-CA51-4A75-95C1-7D81F26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BBC9-BB6E-4940-8A93-54CCF50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4528-0ABE-4459-BB9E-1950646D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3040-BC7E-4F8D-89C0-176EB6CE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1BA11-1B5E-4ADA-8001-2705EAA6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4D8E7-A9DC-4531-9B14-429665B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2FCA-7EA3-4931-87CE-0BE2830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B5A4E-67CF-4097-949F-4DE6B386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42BCC-7E67-4A17-AB13-99490C1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3FC-058E-444E-AB89-8022375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FC189-FE7C-4EE6-B3A7-5F503E9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9D1A-0B20-4EF4-828A-8843529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ADA6-C10F-4081-896D-483C958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0361-DA20-4940-A76B-8C62B67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09A0A-5442-4104-9206-6D1776A1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E264-5120-46B9-A23F-F4C1B5DC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960A3-DFCA-49A5-AE29-0A52D0C8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C69F0-5934-492E-93E4-61EADDE8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A444-B128-4BF3-969E-5962F23B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4B05-B2E4-4B78-A748-50F28B4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2EB-2395-41B1-AC07-7827B70440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729-9CD3-4747-A06E-AD66C501A4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236D-54AA-44CC-B771-5808F5204E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7A87-89AC-496B-AD96-95E725F65E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59FE-2F8A-49F9-BE7E-7BD6DA2C11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6552-8DD5-4273-939E-ADEC252989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C3C-5779-46DD-863A-1D8C4D2AE48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448-99F8-4915-A251-DCE547488F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140-04B4-4D38-B26D-886A8AAA18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9D0-56DE-45D2-B745-B2E620B4E0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9CE-E8D6-41B5-A916-F9D5C0EB8D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AE1-86B7-4F28-A1F5-414A8EDAEB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171-5B35-47C8-8FC1-B73C9874BA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19F8-F335-44AC-8E98-7BD3186DD5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C18-7987-4A33-8C8A-CBD536F48F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325-872C-4D00-ACEC-BF900051C2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7B9-E9A3-469B-9264-4EED34FE93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4E5-94A8-43C3-939C-9A97581420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FA1-389F-415C-A3DB-1AB6208D14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7DA-9EE7-479E-9F54-00F912F30F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9F6-80B7-46EF-828E-EE34C44F3E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2EA-4D50-4861-925B-734EE9608B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6BB-F842-4115-8CA5-74968A28BD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F390-2392-444A-89C2-CD4BBFF0D7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82F5-6D15-4C62-A9E6-A8B0E14B4D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CA5A-97E2-411C-88D6-F13F0EEB44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8F2-54FE-4447-957C-31B41E6A48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001-9F33-425D-82A8-D973BB0E24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74C-3773-40B0-ACA3-7CBEA28775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CCE-5582-458D-B631-A42D95DAA4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B7AF-8361-4FB0-A073-6C4B2CA8A6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F44E-F624-4C47-A083-F7EE691438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964-7557-4934-A9D7-E9F415E035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DB43-E98E-4E29-AFDE-407640E1A8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853C-12FD-48F7-9BA7-4F7868F890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9CB-0C5D-4AA8-9B80-D075EFD8D8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99D-0579-454C-958B-35C56DB8CB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1A49-CB87-466F-9489-CB5A55FAE5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D804-FB37-4CE9-BA9F-40241B2023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676-AA9B-430A-8894-A55C7C36E6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49A-EFCC-4610-A967-3759DB0048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43F9-F3AE-49D4-852B-823BBB2789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509-FBB1-4F83-A7C1-567626A61C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916-B7CC-4AA6-9FFE-2A516BA85F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1AC-4D70-4898-88A1-B77FB76567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C36-2646-42AC-938A-C7C2A95318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ECB-1BF1-49A2-BCC1-3315CF9846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B21-9BFA-49CE-A537-D52C46AA54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20F-1D60-4D90-A8B2-C1C3BDBFC5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5A13-0142-4847-90BD-AE62CD3F93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anjianyu@126.com" TargetMode="External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矩形 16"/>
          <p:cNvSpPr/>
          <p:nvPr/>
        </p:nvSpPr>
        <p:spPr>
          <a:xfrm>
            <a:off x="0" y="1136520"/>
            <a:ext cx="9906120" cy="2340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24"/>
          <p:cNvSpPr/>
          <p:nvPr/>
        </p:nvSpPr>
        <p:spPr>
          <a:xfrm>
            <a:off x="1393920" y="3765600"/>
            <a:ext cx="693720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冉建宇     企业管理博士   副教授   高级营销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WeChat    jianyu_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            </a:t>
            </a: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M.P   136871962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E-mail    </a:t>
            </a:r>
            <a:r>
              <a:rPr b="0" lang="en-US" sz="20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ranjianyu@126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6"/>
          <p:cNvSpPr/>
          <p:nvPr/>
        </p:nvSpPr>
        <p:spPr>
          <a:xfrm>
            <a:off x="630360" y="1136520"/>
            <a:ext cx="821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Calibri"/>
              </a:rPr>
              <a:t>基层医疗卫生机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Calibri"/>
              </a:rPr>
              <a:t>品牌与文化建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1"/>
          <p:cNvSpPr/>
          <p:nvPr/>
        </p:nvSpPr>
        <p:spPr>
          <a:xfrm>
            <a:off x="973080" y="1895400"/>
            <a:ext cx="7532640" cy="0"/>
          </a:xfrm>
          <a:prstGeom prst="line">
            <a:avLst/>
          </a:prstGeom>
          <a:ln w="38160">
            <a:solidFill>
              <a:srgbClr val="d77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F0D-5F4D-4632-B021-CDCE4FC00A6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5" descr=""/>
          <p:cNvPicPr/>
          <p:nvPr/>
        </p:nvPicPr>
        <p:blipFill>
          <a:blip r:embed="rId2"/>
          <a:stretch/>
        </p:blipFill>
        <p:spPr>
          <a:xfrm>
            <a:off x="912960" y="890640"/>
            <a:ext cx="8088120" cy="508464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1"/>
          <p:cNvSpPr/>
          <p:nvPr/>
        </p:nvSpPr>
        <p:spPr>
          <a:xfrm>
            <a:off x="345960" y="628560"/>
            <a:ext cx="11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在哪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41CD-FDD4-4E21-9B7E-3158574FC54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顾客对价值的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17"/>
          <p:cNvSpPr/>
          <p:nvPr/>
        </p:nvSpPr>
        <p:spPr>
          <a:xfrm>
            <a:off x="344520" y="1235160"/>
            <a:ext cx="921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价值、价值感知、顾客价值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椭圆 5"/>
          <p:cNvGrpSpPr/>
          <p:nvPr/>
        </p:nvGrpSpPr>
        <p:grpSpPr>
          <a:xfrm>
            <a:off x="1494000" y="2346480"/>
            <a:ext cx="1573200" cy="2066760"/>
            <a:chOff x="1494000" y="2346480"/>
            <a:chExt cx="1573200" cy="2066760"/>
          </a:xfrm>
        </p:grpSpPr>
        <p:pic>
          <p:nvPicPr>
            <p:cNvPr id="1095" name="椭圆 5" descr=""/>
            <p:cNvPicPr/>
            <p:nvPr/>
          </p:nvPicPr>
          <p:blipFill>
            <a:blip r:embed="rId2"/>
            <a:stretch/>
          </p:blipFill>
          <p:spPr>
            <a:xfrm>
              <a:off x="1494000" y="2346480"/>
              <a:ext cx="157320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1765440" y="2665440"/>
              <a:ext cx="102708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Arial"/>
                </a:rPr>
                <a:t>品牌价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椭圆 6"/>
          <p:cNvGrpSpPr/>
          <p:nvPr/>
        </p:nvGrpSpPr>
        <p:grpSpPr>
          <a:xfrm>
            <a:off x="5694480" y="2359080"/>
            <a:ext cx="1571400" cy="2060640"/>
            <a:chOff x="5694480" y="2359080"/>
            <a:chExt cx="1571400" cy="2060640"/>
          </a:xfrm>
        </p:grpSpPr>
        <p:pic>
          <p:nvPicPr>
            <p:cNvPr id="1098" name="椭圆 6" descr=""/>
            <p:cNvPicPr/>
            <p:nvPr/>
          </p:nvPicPr>
          <p:blipFill>
            <a:blip r:embed="rId3"/>
            <a:stretch/>
          </p:blipFill>
          <p:spPr>
            <a:xfrm>
              <a:off x="5694480" y="2359080"/>
              <a:ext cx="15714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967360" y="2671920"/>
              <a:ext cx="1027080" cy="13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Arial"/>
                </a:rPr>
                <a:t>顾客价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00" name="直接箭头连接符 8"/>
          <p:cNvCxnSpPr/>
          <p:nvPr/>
        </p:nvCxnSpPr>
        <p:spPr>
          <a:xfrm>
            <a:off x="3004920" y="3352680"/>
            <a:ext cx="2750040" cy="8640"/>
          </a:xfrm>
          <a:prstGeom prst="straightConnector1">
            <a:avLst/>
          </a:prstGeom>
          <a:ln w="76320">
            <a:solidFill>
              <a:srgbClr val="d66e26"/>
            </a:solidFill>
            <a:miter/>
            <a:tailEnd len="med" type="triangle" w="med"/>
          </a:ln>
        </p:spPr>
      </p:cxnSp>
      <p:sp>
        <p:nvSpPr>
          <p:cNvPr id="1101" name="线形标注 3 10"/>
          <p:cNvSpPr/>
          <p:nvPr/>
        </p:nvSpPr>
        <p:spPr>
          <a:xfrm>
            <a:off x="1363680" y="4724280"/>
            <a:ext cx="2728800" cy="11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53" y="-1566"/>
                </a:moveTo>
                <a:lnTo>
                  <a:pt x="1226" y="-15822"/>
                </a:lnTo>
                <a:lnTo>
                  <a:pt x="-1302" y="-6261"/>
                </a:lnTo>
                <a:lnTo>
                  <a:pt x="3026" y="-12637"/>
                </a:lnTo>
              </a:path>
            </a:pathLst>
          </a:custGeom>
          <a:solidFill>
            <a:srgbClr val="aafcaa">
              <a:alpha val="80000"/>
            </a:srgbClr>
          </a:solidFill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楷体"/>
                <a:ea typeface="楷体"/>
              </a:rPr>
              <a:t>产品、服务、机构等是品牌的载体，品牌价值是通过这些载体的属性带给顾客的利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线形标注 3 11"/>
          <p:cNvSpPr/>
          <p:nvPr/>
        </p:nvSpPr>
        <p:spPr>
          <a:xfrm>
            <a:off x="5754600" y="4724280"/>
            <a:ext cx="2729160" cy="11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53" y="-1566"/>
                </a:moveTo>
                <a:lnTo>
                  <a:pt x="1226" y="-15822"/>
                </a:lnTo>
                <a:lnTo>
                  <a:pt x="-1302" y="-6261"/>
                </a:lnTo>
                <a:lnTo>
                  <a:pt x="3026" y="-12637"/>
                </a:lnTo>
              </a:path>
            </a:pathLst>
          </a:custGeom>
          <a:solidFill>
            <a:srgbClr val="aafcaa">
              <a:alpha val="80000"/>
            </a:srgbClr>
          </a:solidFill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楷体"/>
                <a:ea typeface="楷体"/>
              </a:rPr>
              <a:t>顾客对品牌物带给他利益的感知、评价、体验</a:t>
            </a:r>
            <a:r>
              <a:rPr b="0" lang="zh-CN" sz="18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4"/>
          <a:stretch/>
        </p:blipFill>
        <p:spPr>
          <a:xfrm>
            <a:off x="3833640" y="2700360"/>
            <a:ext cx="109224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23"/>
          <p:cNvSpPr/>
          <p:nvPr/>
        </p:nvSpPr>
        <p:spPr>
          <a:xfrm>
            <a:off x="130320" y="1181160"/>
            <a:ext cx="9651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社会变革与基层医疗机构品牌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产业结构调整与升级将会造成社会人口的重组、变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网络将会进一步对社会、对社区进行深入渗透，这必将会深刻影响人们的医疗健康观念和需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人口老龄化趋势加快将会推进对乡镇、社区医疗服务需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社会变革与基层医疗机构品牌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E6D-E981-4D15-9A30-6987FCB725E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社会变革与基层医疗机构品牌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17"/>
          <p:cNvSpPr/>
          <p:nvPr/>
        </p:nvSpPr>
        <p:spPr>
          <a:xfrm>
            <a:off x="344520" y="573120"/>
            <a:ext cx="921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在这种背景下，国家的整个医疗保健服务体系必须理顺并不断完善。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未来，基层医疗机构的服务模式和服务内容将会发生巨大变化，服务模式会社会网络化，“桥”的作用凸显；服务模式的移动网络化。服务内容不再是简单的小病拿点药、打打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机构品牌将会适应这种变化重新定位，品牌形象也会更新和重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6DC-E886-40ED-9EFA-FD04A8D1509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建设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23"/>
          <p:cNvSpPr/>
          <p:nvPr/>
        </p:nvSpPr>
        <p:spPr>
          <a:xfrm>
            <a:off x="334800" y="1181160"/>
            <a:ext cx="92314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建设方针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---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精致营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精致营销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: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医疗服务是一个和客户多侧面不断接触沟通过程，既包含服务过程，也包括间思想情感沟通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事无巨细是不可取的，只有把客户感知价值的关键接触点做规范、做精致，并通过深度沟通获得思想与情感认同，最大化顾客的感知价值，从而系统地放大工作效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8605-778C-4115-979E-BBD0874E39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价值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3"/>
          <p:cNvSpPr/>
          <p:nvPr/>
        </p:nvSpPr>
        <p:spPr>
          <a:xfrm>
            <a:off x="334800" y="919080"/>
            <a:ext cx="9231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价值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卫生机构定位与服务体系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全国医疗卫生服务体系规划纲要（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2015-2020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：乡镇卫生院和社区卫生服务中心负责提供基本公共卫生服务，以及常见病、多发病的诊疗、护理、康复等综合服务，并受县级卫生计生行政部门委托，承担辖区内的公共卫生管理工作，负责对村卫生室、社区卫生服务站的综合管理、技术指导和乡村医生的培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9BA6-A945-4599-8544-737EB9CB679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价值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23"/>
          <p:cNvSpPr/>
          <p:nvPr/>
        </p:nvSpPr>
        <p:spPr>
          <a:xfrm>
            <a:off x="334800" y="731880"/>
            <a:ext cx="9231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卫生机构服务质量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质量是品牌价值的核心。基层医疗卫生机构服务质量从三个方面入手：规范、技术、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规范：国家颁布了系列医疗、卫生服务规范与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技术：人才是限制基层医疗卫生机构技术水品的瓶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情感：对于服务产品尤其是医疗卫生而言，情感是质量的关键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2FB-5925-4D4B-B2F1-144248E536E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文化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3"/>
          <p:cNvSpPr/>
          <p:nvPr/>
        </p:nvSpPr>
        <p:spPr>
          <a:xfrm>
            <a:off x="146160" y="934920"/>
            <a:ext cx="9231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卫生机构品牌文化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医疗卫生机构品牌文化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：基本信念、价值观、道德规范、规章制度、生活方式、人文环境，以及与此相适应的思维方式和行为方式的总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精神与价值观是品牌文化的核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1481-E7D5-40B7-B94F-819CA0ED7C7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文化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3"/>
          <p:cNvSpPr/>
          <p:nvPr/>
        </p:nvSpPr>
        <p:spPr>
          <a:xfrm>
            <a:off x="146160" y="1311120"/>
            <a:ext cx="9231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医疗精神：对生命的敬重精神；对工作的敬业精神，对职业道德的敬畏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医疗价值观：利义平衡，守住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规章制度建设：立足岗位，严明奖惩，强调自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言语行为规范建设：员工仪表、行为礼节、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4CC-6A52-4771-8A15-1A3DF98D13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符号形象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3"/>
          <p:cNvSpPr/>
          <p:nvPr/>
        </p:nvSpPr>
        <p:spPr>
          <a:xfrm>
            <a:off x="146160" y="1311120"/>
            <a:ext cx="9231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符号形象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机构品牌符号建设的基本原则：围绕定位核心，系统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具体内容：外部环境包括招牌、建筑构型与色彩、绿化等；内部环境包括装饰装潢、灯光、设备设施陈设、清洁等；人员形象包括服饰、言行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直接连接符 30"/>
          <p:cNvSpPr/>
          <p:nvPr/>
        </p:nvSpPr>
        <p:spPr>
          <a:xfrm>
            <a:off x="13053960" y="155088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3"/>
          <p:cNvSpPr/>
          <p:nvPr/>
        </p:nvSpPr>
        <p:spPr>
          <a:xfrm>
            <a:off x="4097160" y="1895400"/>
            <a:ext cx="0" cy="3386160"/>
          </a:xfrm>
          <a:prstGeom prst="line">
            <a:avLst/>
          </a:prstGeom>
          <a:ln w="6480">
            <a:solidFill>
              <a:srgbClr val="0174a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26"/>
          <p:cNvSpPr/>
          <p:nvPr/>
        </p:nvSpPr>
        <p:spPr>
          <a:xfrm>
            <a:off x="4097160" y="220824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PART 1   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怎样理解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组合 18"/>
          <p:cNvGrpSpPr/>
          <p:nvPr/>
        </p:nvGrpSpPr>
        <p:grpSpPr>
          <a:xfrm>
            <a:off x="1771560" y="2197080"/>
            <a:ext cx="2109960" cy="1940040"/>
            <a:chOff x="1771560" y="2197080"/>
            <a:chExt cx="2109960" cy="1940040"/>
          </a:xfrm>
        </p:grpSpPr>
        <p:sp>
          <p:nvSpPr>
            <p:cNvPr id="1040" name="Freeform 6"/>
            <p:cNvSpPr/>
            <p:nvPr/>
          </p:nvSpPr>
          <p:spPr>
            <a:xfrm>
              <a:off x="1771560" y="2197080"/>
              <a:ext cx="1948320" cy="1796760"/>
            </a:xfrm>
            <a:custGeom>
              <a:avLst/>
              <a:gdLst>
                <a:gd name="textAreaLeft" fmla="*/ 0 w 1948320"/>
                <a:gd name="textAreaRight" fmla="*/ 1948680 w 1948320"/>
                <a:gd name="textAreaTop" fmla="*/ 0 h 1796760"/>
                <a:gd name="textAreaBottom" fmla="*/ 1797120 h 1796760"/>
              </a:gdLst>
              <a:ahLst/>
              <a:rect l="textAreaLeft" t="textAreaTop" r="textAreaRight" b="textAreaBottom"/>
              <a:pathLst>
                <a:path w="1276" h="1274">
                  <a:moveTo>
                    <a:pt x="691" y="1168"/>
                  </a:moveTo>
                  <a:cubicBezTo>
                    <a:pt x="681" y="1203"/>
                    <a:pt x="672" y="1235"/>
                    <a:pt x="662" y="1267"/>
                  </a:cubicBezTo>
                  <a:cubicBezTo>
                    <a:pt x="661" y="1270"/>
                    <a:pt x="657" y="1272"/>
                    <a:pt x="654" y="1273"/>
                  </a:cubicBezTo>
                  <a:cubicBezTo>
                    <a:pt x="651" y="1274"/>
                    <a:pt x="647" y="1274"/>
                    <a:pt x="643" y="1274"/>
                  </a:cubicBezTo>
                  <a:cubicBezTo>
                    <a:pt x="486" y="1274"/>
                    <a:pt x="329" y="1273"/>
                    <a:pt x="172" y="1274"/>
                  </a:cubicBezTo>
                  <a:cubicBezTo>
                    <a:pt x="140" y="1274"/>
                    <a:pt x="109" y="1269"/>
                    <a:pt x="81" y="1253"/>
                  </a:cubicBezTo>
                  <a:cubicBezTo>
                    <a:pt x="29" y="1221"/>
                    <a:pt x="1" y="1174"/>
                    <a:pt x="1" y="1113"/>
                  </a:cubicBezTo>
                  <a:cubicBezTo>
                    <a:pt x="0" y="1039"/>
                    <a:pt x="0" y="966"/>
                    <a:pt x="0" y="892"/>
                  </a:cubicBezTo>
                  <a:cubicBezTo>
                    <a:pt x="0" y="651"/>
                    <a:pt x="0" y="411"/>
                    <a:pt x="0" y="170"/>
                  </a:cubicBezTo>
                  <a:cubicBezTo>
                    <a:pt x="0" y="68"/>
                    <a:pt x="68" y="0"/>
                    <a:pt x="170" y="0"/>
                  </a:cubicBezTo>
                  <a:cubicBezTo>
                    <a:pt x="483" y="0"/>
                    <a:pt x="797" y="0"/>
                    <a:pt x="1110" y="0"/>
                  </a:cubicBezTo>
                  <a:cubicBezTo>
                    <a:pt x="1194" y="0"/>
                    <a:pt x="1258" y="51"/>
                    <a:pt x="1273" y="131"/>
                  </a:cubicBezTo>
                  <a:cubicBezTo>
                    <a:pt x="1276" y="143"/>
                    <a:pt x="1276" y="156"/>
                    <a:pt x="1276" y="168"/>
                  </a:cubicBezTo>
                  <a:cubicBezTo>
                    <a:pt x="1276" y="322"/>
                    <a:pt x="1276" y="475"/>
                    <a:pt x="1276" y="629"/>
                  </a:cubicBezTo>
                  <a:cubicBezTo>
                    <a:pt x="1276" y="634"/>
                    <a:pt x="1276" y="638"/>
                    <a:pt x="1275" y="645"/>
                  </a:cubicBezTo>
                  <a:cubicBezTo>
                    <a:pt x="1239" y="640"/>
                    <a:pt x="1205" y="643"/>
                    <a:pt x="1171" y="659"/>
                  </a:cubicBezTo>
                  <a:cubicBezTo>
                    <a:pt x="1171" y="509"/>
                    <a:pt x="1171" y="362"/>
                    <a:pt x="1171" y="214"/>
                  </a:cubicBezTo>
                  <a:cubicBezTo>
                    <a:pt x="816" y="214"/>
                    <a:pt x="462" y="214"/>
                    <a:pt x="106" y="214"/>
                  </a:cubicBezTo>
                  <a:cubicBezTo>
                    <a:pt x="106" y="219"/>
                    <a:pt x="106" y="224"/>
                    <a:pt x="106" y="230"/>
                  </a:cubicBezTo>
                  <a:cubicBezTo>
                    <a:pt x="106" y="521"/>
                    <a:pt x="106" y="812"/>
                    <a:pt x="105" y="1102"/>
                  </a:cubicBezTo>
                  <a:cubicBezTo>
                    <a:pt x="105" y="1141"/>
                    <a:pt x="125" y="1169"/>
                    <a:pt x="171" y="1168"/>
                  </a:cubicBezTo>
                  <a:cubicBezTo>
                    <a:pt x="338" y="1167"/>
                    <a:pt x="504" y="1168"/>
                    <a:pt x="671" y="1168"/>
                  </a:cubicBezTo>
                  <a:cubicBezTo>
                    <a:pt x="677" y="1168"/>
                    <a:pt x="683" y="1168"/>
                    <a:pt x="691" y="1168"/>
                  </a:cubicBez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"/>
            <p:cNvSpPr/>
            <p:nvPr/>
          </p:nvSpPr>
          <p:spPr>
            <a:xfrm>
              <a:off x="2914920" y="3442320"/>
              <a:ext cx="755640" cy="69480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495" h="493">
                  <a:moveTo>
                    <a:pt x="328" y="1"/>
                  </a:moveTo>
                  <a:cubicBezTo>
                    <a:pt x="384" y="56"/>
                    <a:pt x="439" y="112"/>
                    <a:pt x="495" y="167"/>
                  </a:cubicBezTo>
                  <a:cubicBezTo>
                    <a:pt x="473" y="190"/>
                    <a:pt x="450" y="213"/>
                    <a:pt x="427" y="236"/>
                  </a:cubicBezTo>
                  <a:cubicBezTo>
                    <a:pt x="365" y="298"/>
                    <a:pt x="303" y="360"/>
                    <a:pt x="240" y="421"/>
                  </a:cubicBezTo>
                  <a:cubicBezTo>
                    <a:pt x="233" y="428"/>
                    <a:pt x="225" y="433"/>
                    <a:pt x="216" y="436"/>
                  </a:cubicBezTo>
                  <a:cubicBezTo>
                    <a:pt x="157" y="454"/>
                    <a:pt x="98" y="471"/>
                    <a:pt x="40" y="488"/>
                  </a:cubicBezTo>
                  <a:cubicBezTo>
                    <a:pt x="28" y="492"/>
                    <a:pt x="18" y="493"/>
                    <a:pt x="9" y="484"/>
                  </a:cubicBezTo>
                  <a:cubicBezTo>
                    <a:pt x="0" y="475"/>
                    <a:pt x="3" y="464"/>
                    <a:pt x="6" y="454"/>
                  </a:cubicBezTo>
                  <a:cubicBezTo>
                    <a:pt x="23" y="395"/>
                    <a:pt x="40" y="335"/>
                    <a:pt x="58" y="276"/>
                  </a:cubicBezTo>
                  <a:cubicBezTo>
                    <a:pt x="60" y="270"/>
                    <a:pt x="63" y="264"/>
                    <a:pt x="67" y="259"/>
                  </a:cubicBezTo>
                  <a:cubicBezTo>
                    <a:pt x="154" y="173"/>
                    <a:pt x="240" y="87"/>
                    <a:pt x="327" y="1"/>
                  </a:cubicBezTo>
                  <a:cubicBezTo>
                    <a:pt x="328" y="1"/>
                    <a:pt x="329" y="0"/>
                    <a:pt x="328" y="1"/>
                  </a:cubicBezTo>
                  <a:close/>
                  <a:moveTo>
                    <a:pt x="102" y="292"/>
                  </a:moveTo>
                  <a:cubicBezTo>
                    <a:pt x="91" y="327"/>
                    <a:pt x="81" y="362"/>
                    <a:pt x="72" y="396"/>
                  </a:cubicBezTo>
                  <a:cubicBezTo>
                    <a:pt x="71" y="399"/>
                    <a:pt x="72" y="403"/>
                    <a:pt x="74" y="405"/>
                  </a:cubicBezTo>
                  <a:cubicBezTo>
                    <a:pt x="87" y="423"/>
                    <a:pt x="92" y="425"/>
                    <a:pt x="113" y="418"/>
                  </a:cubicBezTo>
                  <a:cubicBezTo>
                    <a:pt x="125" y="415"/>
                    <a:pt x="136" y="411"/>
                    <a:pt x="148" y="408"/>
                  </a:cubicBezTo>
                  <a:cubicBezTo>
                    <a:pt x="165" y="403"/>
                    <a:pt x="182" y="398"/>
                    <a:pt x="200" y="393"/>
                  </a:cubicBezTo>
                  <a:cubicBezTo>
                    <a:pt x="195" y="365"/>
                    <a:pt x="190" y="341"/>
                    <a:pt x="185" y="316"/>
                  </a:cubicBezTo>
                  <a:cubicBezTo>
                    <a:pt x="185" y="313"/>
                    <a:pt x="181" y="309"/>
                    <a:pt x="178" y="308"/>
                  </a:cubicBezTo>
                  <a:cubicBezTo>
                    <a:pt x="153" y="302"/>
                    <a:pt x="128" y="297"/>
                    <a:pt x="102" y="2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"/>
            <p:cNvSpPr/>
            <p:nvPr/>
          </p:nvSpPr>
          <p:spPr>
            <a:xfrm>
              <a:off x="2504520" y="3096720"/>
              <a:ext cx="807120" cy="146160"/>
            </a:xfrm>
            <a:custGeom>
              <a:avLst/>
              <a:gdLst>
                <a:gd name="textAreaLeft" fmla="*/ 0 w 807120"/>
                <a:gd name="textAreaRight" fmla="*/ 807480 w 8071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9" h="104">
                  <a:moveTo>
                    <a:pt x="0" y="104"/>
                  </a:moveTo>
                  <a:cubicBezTo>
                    <a:pt x="0" y="69"/>
                    <a:pt x="0" y="35"/>
                    <a:pt x="0" y="0"/>
                  </a:cubicBezTo>
                  <a:cubicBezTo>
                    <a:pt x="177" y="0"/>
                    <a:pt x="352" y="0"/>
                    <a:pt x="529" y="0"/>
                  </a:cubicBezTo>
                  <a:cubicBezTo>
                    <a:pt x="529" y="35"/>
                    <a:pt x="529" y="69"/>
                    <a:pt x="529" y="104"/>
                  </a:cubicBezTo>
                  <a:cubicBezTo>
                    <a:pt x="353" y="104"/>
                    <a:pt x="177" y="104"/>
                    <a:pt x="0" y="10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505960" y="2797920"/>
              <a:ext cx="806040" cy="14616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8" h="104">
                  <a:moveTo>
                    <a:pt x="528" y="0"/>
                  </a:moveTo>
                  <a:cubicBezTo>
                    <a:pt x="528" y="35"/>
                    <a:pt x="528" y="69"/>
                    <a:pt x="528" y="104"/>
                  </a:cubicBezTo>
                  <a:cubicBezTo>
                    <a:pt x="352" y="104"/>
                    <a:pt x="177" y="104"/>
                    <a:pt x="0" y="104"/>
                  </a:cubicBezTo>
                  <a:cubicBezTo>
                    <a:pt x="0" y="70"/>
                    <a:pt x="0" y="36"/>
                    <a:pt x="0" y="0"/>
                  </a:cubicBezTo>
                  <a:cubicBezTo>
                    <a:pt x="176" y="0"/>
                    <a:pt x="352" y="0"/>
                    <a:pt x="52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505960" y="3395880"/>
              <a:ext cx="729720" cy="1476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78" h="105">
                  <a:moveTo>
                    <a:pt x="0" y="0"/>
                  </a:moveTo>
                  <a:cubicBezTo>
                    <a:pt x="159" y="0"/>
                    <a:pt x="318" y="0"/>
                    <a:pt x="478" y="0"/>
                  </a:cubicBezTo>
                  <a:cubicBezTo>
                    <a:pt x="476" y="3"/>
                    <a:pt x="474" y="6"/>
                    <a:pt x="472" y="8"/>
                  </a:cubicBezTo>
                  <a:cubicBezTo>
                    <a:pt x="443" y="38"/>
                    <a:pt x="413" y="68"/>
                    <a:pt x="383" y="97"/>
                  </a:cubicBezTo>
                  <a:cubicBezTo>
                    <a:pt x="379" y="101"/>
                    <a:pt x="372" y="104"/>
                    <a:pt x="366" y="104"/>
                  </a:cubicBezTo>
                  <a:cubicBezTo>
                    <a:pt x="247" y="105"/>
                    <a:pt x="127" y="105"/>
                    <a:pt x="8" y="105"/>
                  </a:cubicBezTo>
                  <a:cubicBezTo>
                    <a:pt x="6" y="105"/>
                    <a:pt x="3" y="104"/>
                    <a:pt x="0" y="104"/>
                  </a:cubicBezTo>
                  <a:cubicBezTo>
                    <a:pt x="0" y="69"/>
                    <a:pt x="0" y="35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3506040" y="3244680"/>
              <a:ext cx="375480" cy="34416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46" h="244">
                  <a:moveTo>
                    <a:pt x="0" y="87"/>
                  </a:moveTo>
                  <a:cubicBezTo>
                    <a:pt x="22" y="64"/>
                    <a:pt x="43" y="41"/>
                    <a:pt x="66" y="20"/>
                  </a:cubicBezTo>
                  <a:cubicBezTo>
                    <a:pt x="87" y="1"/>
                    <a:pt x="118" y="0"/>
                    <a:pt x="139" y="20"/>
                  </a:cubicBezTo>
                  <a:cubicBezTo>
                    <a:pt x="169" y="48"/>
                    <a:pt x="198" y="76"/>
                    <a:pt x="225" y="106"/>
                  </a:cubicBezTo>
                  <a:cubicBezTo>
                    <a:pt x="245" y="127"/>
                    <a:pt x="246" y="158"/>
                    <a:pt x="227" y="178"/>
                  </a:cubicBezTo>
                  <a:cubicBezTo>
                    <a:pt x="205" y="202"/>
                    <a:pt x="181" y="223"/>
                    <a:pt x="159" y="244"/>
                  </a:cubicBezTo>
                  <a:cubicBezTo>
                    <a:pt x="107" y="193"/>
                    <a:pt x="54" y="140"/>
                    <a:pt x="0" y="8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179080" y="3098160"/>
              <a:ext cx="158400" cy="144000"/>
            </a:xfrm>
            <a:custGeom>
              <a:avLst/>
              <a:gdLst>
                <a:gd name="textAreaLeft" fmla="*/ 0 w 158400"/>
                <a:gd name="textAreaRight" fmla="*/ 158400 w 158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04" h="102">
                  <a:moveTo>
                    <a:pt x="0" y="102"/>
                  </a:moveTo>
                  <a:cubicBezTo>
                    <a:pt x="0" y="68"/>
                    <a:pt x="0" y="34"/>
                    <a:pt x="0" y="0"/>
                  </a:cubicBezTo>
                  <a:cubicBezTo>
                    <a:pt x="35" y="0"/>
                    <a:pt x="69" y="0"/>
                    <a:pt x="104" y="0"/>
                  </a:cubicBezTo>
                  <a:cubicBezTo>
                    <a:pt x="104" y="34"/>
                    <a:pt x="104" y="67"/>
                    <a:pt x="104" y="102"/>
                  </a:cubicBezTo>
                  <a:cubicBezTo>
                    <a:pt x="70" y="102"/>
                    <a:pt x="36" y="102"/>
                    <a:pt x="0" y="10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180520" y="2799000"/>
              <a:ext cx="157320" cy="1450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4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4"/>
                    <a:pt x="103" y="68"/>
                    <a:pt x="103" y="10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4"/>
            <p:cNvSpPr/>
            <p:nvPr/>
          </p:nvSpPr>
          <p:spPr>
            <a:xfrm>
              <a:off x="2180520" y="3396960"/>
              <a:ext cx="157320" cy="1450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5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3"/>
                    <a:pt x="103" y="67"/>
                    <a:pt x="103" y="10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文本框 34"/>
          <p:cNvSpPr/>
          <p:nvPr/>
        </p:nvSpPr>
        <p:spPr>
          <a:xfrm>
            <a:off x="1216080" y="413712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内   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26"/>
          <p:cNvSpPr/>
          <p:nvPr/>
        </p:nvSpPr>
        <p:spPr>
          <a:xfrm>
            <a:off x="4097160" y="2863800"/>
            <a:ext cx="52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PART 2  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基层医疗机构品牌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E033-E6E2-49B9-ABD5-C8DAD0CA9D4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关系建设与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3"/>
          <p:cNvSpPr/>
          <p:nvPr/>
        </p:nvSpPr>
        <p:spPr>
          <a:xfrm>
            <a:off x="146160" y="1311120"/>
            <a:ext cx="9231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关系建设与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关系，是品牌与接触点的关系，包括品牌内部关系、品牌与医药供应商关系、品牌与顾客关系等。其中，品牌与顾客的关系是核心，因而，品牌关系建设是基层医疗机构与顾客间关系建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机构与顾客间关系建设的关键途径是顾客关系沟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4E5E-1C50-41EB-A0AA-0AC8F7DE05C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层医疗机构品牌建设         </a:t>
            </a: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关系建设与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3"/>
          <p:cNvSpPr/>
          <p:nvPr/>
        </p:nvSpPr>
        <p:spPr>
          <a:xfrm>
            <a:off x="146160" y="1311120"/>
            <a:ext cx="923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顾客关系沟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直接沟通：医院内沟通、公益活动沟通、网络沟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简介沟通：电话、网络平台、宣传页、杂志广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"/>
          <p:cNvSpPr/>
          <p:nvPr/>
        </p:nvSpPr>
        <p:spPr>
          <a:xfrm>
            <a:off x="2517840" y="3745080"/>
            <a:ext cx="4870440" cy="93816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4"/>
          <p:cNvGrpSpPr/>
          <p:nvPr/>
        </p:nvGrpSpPr>
        <p:grpSpPr>
          <a:xfrm>
            <a:off x="3952800" y="1638360"/>
            <a:ext cx="2001960" cy="1720800"/>
            <a:chOff x="3952800" y="1638360"/>
            <a:chExt cx="2001960" cy="1720800"/>
          </a:xfrm>
        </p:grpSpPr>
        <p:sp>
          <p:nvSpPr>
            <p:cNvPr id="1135" name="Freeform 6"/>
            <p:cNvSpPr/>
            <p:nvPr/>
          </p:nvSpPr>
          <p:spPr>
            <a:xfrm>
              <a:off x="3952800" y="1638360"/>
              <a:ext cx="2001960" cy="1720800"/>
            </a:xfrm>
            <a:custGeom>
              <a:avLst/>
              <a:gdLst>
                <a:gd name="textAreaLeft" fmla="*/ 0 w 2001960"/>
                <a:gd name="textAreaRight" fmla="*/ 2002320 w 200196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1360" h="1266">
                  <a:moveTo>
                    <a:pt x="96" y="404"/>
                  </a:moveTo>
                  <a:cubicBezTo>
                    <a:pt x="96" y="447"/>
                    <a:pt x="96" y="487"/>
                    <a:pt x="96" y="527"/>
                  </a:cubicBezTo>
                  <a:cubicBezTo>
                    <a:pt x="96" y="531"/>
                    <a:pt x="101" y="535"/>
                    <a:pt x="105" y="537"/>
                  </a:cubicBezTo>
                  <a:cubicBezTo>
                    <a:pt x="136" y="555"/>
                    <a:pt x="144" y="585"/>
                    <a:pt x="123" y="616"/>
                  </a:cubicBezTo>
                  <a:cubicBezTo>
                    <a:pt x="121" y="620"/>
                    <a:pt x="119" y="625"/>
                    <a:pt x="119" y="629"/>
                  </a:cubicBezTo>
                  <a:cubicBezTo>
                    <a:pt x="128" y="733"/>
                    <a:pt x="138" y="836"/>
                    <a:pt x="147" y="940"/>
                  </a:cubicBezTo>
                  <a:cubicBezTo>
                    <a:pt x="154" y="1024"/>
                    <a:pt x="162" y="1109"/>
                    <a:pt x="169" y="1194"/>
                  </a:cubicBezTo>
                  <a:cubicBezTo>
                    <a:pt x="171" y="1217"/>
                    <a:pt x="173" y="1239"/>
                    <a:pt x="175" y="1266"/>
                  </a:cubicBezTo>
                  <a:cubicBezTo>
                    <a:pt x="117" y="1266"/>
                    <a:pt x="60" y="1266"/>
                    <a:pt x="0" y="1266"/>
                  </a:cubicBezTo>
                  <a:cubicBezTo>
                    <a:pt x="2" y="1244"/>
                    <a:pt x="4" y="1220"/>
                    <a:pt x="6" y="1197"/>
                  </a:cubicBezTo>
                  <a:cubicBezTo>
                    <a:pt x="16" y="1068"/>
                    <a:pt x="27" y="940"/>
                    <a:pt x="38" y="811"/>
                  </a:cubicBezTo>
                  <a:cubicBezTo>
                    <a:pt x="43" y="750"/>
                    <a:pt x="49" y="690"/>
                    <a:pt x="54" y="629"/>
                  </a:cubicBezTo>
                  <a:cubicBezTo>
                    <a:pt x="54" y="624"/>
                    <a:pt x="52" y="617"/>
                    <a:pt x="50" y="613"/>
                  </a:cubicBezTo>
                  <a:cubicBezTo>
                    <a:pt x="32" y="583"/>
                    <a:pt x="40" y="553"/>
                    <a:pt x="71" y="537"/>
                  </a:cubicBezTo>
                  <a:cubicBezTo>
                    <a:pt x="75" y="535"/>
                    <a:pt x="79" y="529"/>
                    <a:pt x="79" y="525"/>
                  </a:cubicBezTo>
                  <a:cubicBezTo>
                    <a:pt x="79" y="486"/>
                    <a:pt x="80" y="446"/>
                    <a:pt x="79" y="407"/>
                  </a:cubicBezTo>
                  <a:cubicBezTo>
                    <a:pt x="79" y="402"/>
                    <a:pt x="74" y="395"/>
                    <a:pt x="70" y="392"/>
                  </a:cubicBezTo>
                  <a:cubicBezTo>
                    <a:pt x="58" y="386"/>
                    <a:pt x="45" y="381"/>
                    <a:pt x="31" y="374"/>
                  </a:cubicBezTo>
                  <a:cubicBezTo>
                    <a:pt x="36" y="371"/>
                    <a:pt x="40" y="368"/>
                    <a:pt x="44" y="366"/>
                  </a:cubicBezTo>
                  <a:cubicBezTo>
                    <a:pt x="237" y="259"/>
                    <a:pt x="431" y="151"/>
                    <a:pt x="624" y="44"/>
                  </a:cubicBezTo>
                  <a:cubicBezTo>
                    <a:pt x="647" y="31"/>
                    <a:pt x="670" y="19"/>
                    <a:pt x="692" y="5"/>
                  </a:cubicBezTo>
                  <a:cubicBezTo>
                    <a:pt x="702" y="0"/>
                    <a:pt x="709" y="1"/>
                    <a:pt x="718" y="5"/>
                  </a:cubicBezTo>
                  <a:cubicBezTo>
                    <a:pt x="897" y="96"/>
                    <a:pt x="1076" y="185"/>
                    <a:pt x="1255" y="275"/>
                  </a:cubicBezTo>
                  <a:cubicBezTo>
                    <a:pt x="1289" y="293"/>
                    <a:pt x="1324" y="310"/>
                    <a:pt x="1360" y="328"/>
                  </a:cubicBezTo>
                  <a:cubicBezTo>
                    <a:pt x="1339" y="340"/>
                    <a:pt x="1320" y="350"/>
                    <a:pt x="1302" y="360"/>
                  </a:cubicBezTo>
                  <a:cubicBezTo>
                    <a:pt x="1109" y="462"/>
                    <a:pt x="916" y="564"/>
                    <a:pt x="723" y="666"/>
                  </a:cubicBezTo>
                  <a:cubicBezTo>
                    <a:pt x="711" y="672"/>
                    <a:pt x="701" y="674"/>
                    <a:pt x="688" y="668"/>
                  </a:cubicBezTo>
                  <a:cubicBezTo>
                    <a:pt x="496" y="582"/>
                    <a:pt x="304" y="496"/>
                    <a:pt x="112" y="411"/>
                  </a:cubicBezTo>
                  <a:cubicBezTo>
                    <a:pt x="108" y="409"/>
                    <a:pt x="103" y="407"/>
                    <a:pt x="96" y="404"/>
                  </a:cubicBezTo>
                  <a:close/>
                </a:path>
              </a:pathLst>
            </a:cu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"/>
            <p:cNvSpPr/>
            <p:nvPr/>
          </p:nvSpPr>
          <p:spPr>
            <a:xfrm>
              <a:off x="4366080" y="2368440"/>
              <a:ext cx="1243800" cy="543600"/>
            </a:xfrm>
            <a:custGeom>
              <a:avLst/>
              <a:gdLst>
                <a:gd name="textAreaLeft" fmla="*/ 0 w 1243800"/>
                <a:gd name="textAreaRight" fmla="*/ 1244160 w 124380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845" h="400">
                  <a:moveTo>
                    <a:pt x="0" y="147"/>
                  </a:moveTo>
                  <a:cubicBezTo>
                    <a:pt x="27" y="108"/>
                    <a:pt x="53" y="70"/>
                    <a:pt x="78" y="32"/>
                  </a:cubicBezTo>
                  <a:cubicBezTo>
                    <a:pt x="84" y="24"/>
                    <a:pt x="89" y="25"/>
                    <a:pt x="96" y="28"/>
                  </a:cubicBezTo>
                  <a:cubicBezTo>
                    <a:pt x="151" y="53"/>
                    <a:pt x="206" y="77"/>
                    <a:pt x="262" y="101"/>
                  </a:cubicBezTo>
                  <a:cubicBezTo>
                    <a:pt x="313" y="124"/>
                    <a:pt x="365" y="147"/>
                    <a:pt x="417" y="170"/>
                  </a:cubicBezTo>
                  <a:cubicBezTo>
                    <a:pt x="421" y="172"/>
                    <a:pt x="429" y="170"/>
                    <a:pt x="434" y="167"/>
                  </a:cubicBezTo>
                  <a:cubicBezTo>
                    <a:pt x="531" y="116"/>
                    <a:pt x="627" y="65"/>
                    <a:pt x="724" y="13"/>
                  </a:cubicBezTo>
                  <a:cubicBezTo>
                    <a:pt x="732" y="9"/>
                    <a:pt x="740" y="5"/>
                    <a:pt x="749" y="0"/>
                  </a:cubicBezTo>
                  <a:cubicBezTo>
                    <a:pt x="781" y="48"/>
                    <a:pt x="813" y="95"/>
                    <a:pt x="845" y="143"/>
                  </a:cubicBezTo>
                  <a:cubicBezTo>
                    <a:pt x="811" y="165"/>
                    <a:pt x="777" y="186"/>
                    <a:pt x="743" y="207"/>
                  </a:cubicBezTo>
                  <a:cubicBezTo>
                    <a:pt x="645" y="269"/>
                    <a:pt x="546" y="331"/>
                    <a:pt x="448" y="393"/>
                  </a:cubicBezTo>
                  <a:cubicBezTo>
                    <a:pt x="438" y="399"/>
                    <a:pt x="431" y="400"/>
                    <a:pt x="421" y="394"/>
                  </a:cubicBezTo>
                  <a:cubicBezTo>
                    <a:pt x="284" y="313"/>
                    <a:pt x="146" y="233"/>
                    <a:pt x="8" y="153"/>
                  </a:cubicBezTo>
                  <a:cubicBezTo>
                    <a:pt x="6" y="151"/>
                    <a:pt x="3" y="149"/>
                    <a:pt x="0" y="147"/>
                  </a:cubicBezTo>
                  <a:close/>
                </a:path>
              </a:pathLst>
            </a:cu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矩形 17"/>
          <p:cNvSpPr/>
          <p:nvPr/>
        </p:nvSpPr>
        <p:spPr>
          <a:xfrm>
            <a:off x="344520" y="930240"/>
            <a:ext cx="921708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一、怎样理解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是牌子，是标识、符号。科特勒：品牌就是一个名字、称谓、符号或设计，或是上述的总和，其目的是要使自己的产品或服务有别于其他竞争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611-0C97-43BC-9FA7-D8A90D7811D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399960" y="790560"/>
            <a:ext cx="3714840" cy="3129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4249800" y="987480"/>
            <a:ext cx="5092560" cy="1542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399960" y="4262400"/>
            <a:ext cx="4184640" cy="12859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5"/>
          <a:stretch/>
        </p:blipFill>
        <p:spPr>
          <a:xfrm>
            <a:off x="5116680" y="2841480"/>
            <a:ext cx="3359160" cy="32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CF4-C044-4123-886C-F2108659ABD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17"/>
          <p:cNvSpPr/>
          <p:nvPr/>
        </p:nvSpPr>
        <p:spPr>
          <a:xfrm>
            <a:off x="344520" y="3963960"/>
            <a:ext cx="921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符号：包括名称、标志、基本色、口号、象征物、代言人、包装等，这些识别元素形成一个有机结构，对顾客施加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2" descr=""/>
          <p:cNvPicPr/>
          <p:nvPr/>
        </p:nvPicPr>
        <p:blipFill>
          <a:blip r:embed="rId2"/>
          <a:stretch/>
        </p:blipFill>
        <p:spPr>
          <a:xfrm>
            <a:off x="304920" y="557280"/>
            <a:ext cx="4151160" cy="30686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3"/>
          <a:stretch/>
        </p:blipFill>
        <p:spPr>
          <a:xfrm>
            <a:off x="4589640" y="557280"/>
            <a:ext cx="4608360" cy="3036960"/>
          </a:xfrm>
          <a:prstGeom prst="rect">
            <a:avLst/>
          </a:prstGeom>
          <a:ln w="0">
            <a:noFill/>
          </a:ln>
        </p:spPr>
      </p:pic>
      <p:sp>
        <p:nvSpPr>
          <p:cNvPr id="1063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8E4C-9A52-41D8-8D62-2484D430991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7"/>
          <p:cNvSpPr/>
          <p:nvPr/>
        </p:nvSpPr>
        <p:spPr>
          <a:xfrm>
            <a:off x="344520" y="1235160"/>
            <a:ext cx="921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是内涵与形式的统一：品牌是外在名称、术语、标记、符号或设计的组合等有形因素与独特的价值、文化富有个性的有机统一。 是“品”和“牌”的统一。“品”的本质是为顾客提供的价值（尤其是核心价值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2313000" y="3668760"/>
            <a:ext cx="4842000" cy="2552760"/>
          </a:xfrm>
          <a:prstGeom prst="rect">
            <a:avLst/>
          </a:prstGeom>
          <a:ln w="0">
            <a:noFill/>
          </a:ln>
        </p:spPr>
      </p:pic>
      <p:sp>
        <p:nvSpPr>
          <p:cNvPr id="1067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EFF-6EB5-4190-8757-E4FC7A861FA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6313320" y="2001960"/>
            <a:ext cx="3019680" cy="4618080"/>
          </a:xfrm>
          <a:prstGeom prst="rect">
            <a:avLst/>
          </a:prstGeom>
          <a:ln w="0">
            <a:noFill/>
          </a:ln>
        </p:spPr>
      </p:pic>
      <p:sp>
        <p:nvSpPr>
          <p:cNvPr id="1070" name="矩形 17"/>
          <p:cNvSpPr/>
          <p:nvPr/>
        </p:nvSpPr>
        <p:spPr>
          <a:xfrm>
            <a:off x="217440" y="4354560"/>
            <a:ext cx="576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21"/>
          <p:cNvGrpSpPr/>
          <p:nvPr/>
        </p:nvGrpSpPr>
        <p:grpSpPr>
          <a:xfrm>
            <a:off x="496800" y="4740120"/>
            <a:ext cx="4946760" cy="1100160"/>
            <a:chOff x="496800" y="4740120"/>
            <a:chExt cx="4946760" cy="1100160"/>
          </a:xfrm>
        </p:grpSpPr>
        <p:sp>
          <p:nvSpPr>
            <p:cNvPr id="1072" name="TextBox 4"/>
            <p:cNvSpPr/>
            <p:nvPr/>
          </p:nvSpPr>
          <p:spPr>
            <a:xfrm>
              <a:off x="3702240" y="531972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价值文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Box 9"/>
            <p:cNvSpPr/>
            <p:nvPr/>
          </p:nvSpPr>
          <p:spPr>
            <a:xfrm>
              <a:off x="3673440" y="479556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符号系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Box 10"/>
            <p:cNvSpPr/>
            <p:nvPr/>
          </p:nvSpPr>
          <p:spPr>
            <a:xfrm>
              <a:off x="496800" y="505764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品牌形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组合 19"/>
            <p:cNvGrpSpPr/>
            <p:nvPr/>
          </p:nvGrpSpPr>
          <p:grpSpPr>
            <a:xfrm>
              <a:off x="2104920" y="5057640"/>
              <a:ext cx="1582200" cy="523080"/>
              <a:chOff x="2104920" y="5057640"/>
              <a:chExt cx="1582200" cy="523080"/>
            </a:xfrm>
          </p:grpSpPr>
          <p:sp>
            <p:nvSpPr>
              <p:cNvPr id="1076" name="直接连接符 8"/>
              <p:cNvSpPr/>
              <p:nvPr/>
            </p:nvSpPr>
            <p:spPr>
              <a:xfrm>
                <a:off x="3411360" y="5057640"/>
                <a:ext cx="261000" cy="0"/>
              </a:xfrm>
              <a:prstGeom prst="line">
                <a:avLst/>
              </a:prstGeom>
              <a:ln w="38160">
                <a:solidFill>
                  <a:srgbClr val="ec79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直接连接符 14"/>
              <p:cNvSpPr/>
              <p:nvPr/>
            </p:nvSpPr>
            <p:spPr>
              <a:xfrm>
                <a:off x="3426120" y="5580720"/>
                <a:ext cx="261000" cy="0"/>
              </a:xfrm>
              <a:prstGeom prst="line">
                <a:avLst/>
              </a:prstGeom>
              <a:ln w="38160">
                <a:solidFill>
                  <a:srgbClr val="ec79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直接连接符 16"/>
              <p:cNvSpPr/>
              <p:nvPr/>
            </p:nvSpPr>
            <p:spPr>
              <a:xfrm>
                <a:off x="3411360" y="5057640"/>
                <a:ext cx="0" cy="523080"/>
              </a:xfrm>
              <a:prstGeom prst="line">
                <a:avLst/>
              </a:prstGeom>
              <a:ln w="38160">
                <a:solidFill>
                  <a:srgbClr val="ec79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直接连接符 20"/>
              <p:cNvSpPr/>
              <p:nvPr/>
            </p:nvSpPr>
            <p:spPr>
              <a:xfrm>
                <a:off x="2104920" y="5319000"/>
                <a:ext cx="1272240" cy="0"/>
              </a:xfrm>
              <a:prstGeom prst="line">
                <a:avLst/>
              </a:prstGeom>
              <a:ln w="38160">
                <a:solidFill>
                  <a:srgbClr val="ec792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TextBox 23"/>
            <p:cNvSpPr/>
            <p:nvPr/>
          </p:nvSpPr>
          <p:spPr>
            <a:xfrm>
              <a:off x="2133360" y="4740120"/>
              <a:ext cx="12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感知联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日期占位符 2"/>
          <p:cNvSpPr/>
          <p:nvPr/>
        </p:nvSpPr>
        <p:spPr>
          <a:xfrm>
            <a:off x="68112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BE3-048D-430C-9C55-F9D078C6987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7"/>
          <p:cNvSpPr/>
          <p:nvPr/>
        </p:nvSpPr>
        <p:spPr>
          <a:xfrm>
            <a:off x="344520" y="1249200"/>
            <a:ext cx="921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●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是关系：品牌在本质上便是企业（或产品）与顾客关系的集合。“品牌是消费者与产品之间的关系”， “一个成功的关系就是一个成功的品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从这个角度讲，基层卫生院的品牌就是卫生院与顾客关系的集合。品牌建设就是基层卫生院与顾客关系建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Box 23"/>
          <p:cNvSpPr/>
          <p:nvPr/>
        </p:nvSpPr>
        <p:spPr>
          <a:xfrm>
            <a:off x="334800" y="1181160"/>
            <a:ext cx="9231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品牌在哪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卫生医疗机构品牌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一个品牌的强势程度取决于顾客在长期经历中，对品牌的所知、所感、所见和所闻；换句话说，品牌存在于顾客的心智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"/>
                <a:ea typeface="楷体"/>
              </a:rPr>
              <a:t>基层医疗卫生机构的品牌建设是一个和顾客之间进行的，认知、思想、感情、形象的沟通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 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怎样理解品牌                  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品牌在哪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USER</dc:creator>
  <dc:description/>
  <dc:language>en-US</dc:language>
  <cp:lastModifiedBy>123456</cp:lastModifiedBy>
  <dcterms:modified xsi:type="dcterms:W3CDTF">2015-07-08T04:53:08Z</dcterms:modified>
  <cp:revision>3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